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AB1-93C0-4FD5-89BD-0C530F23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999-6B9E-4E59-9B0A-C454F55D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12A-EFAF-459D-878C-3F724262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EF6-75A5-4110-87CC-594CE7A6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24D-F582-4D49-893C-A3E46558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DCB-834B-413E-A393-EBE09611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A42-DED9-437F-9FC4-A8295276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0C4-DBD7-40EE-BE90-94524337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631-51CB-45F6-8E0D-237D7C73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E00-7CD4-402B-BF55-82FF097D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6F2-8553-48B9-84EE-14093D08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687-B13D-45C6-B26E-E4BCADCA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4316-01F0-4588-82CF-9BF39C7099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itweb.tekotago.ac.nz/wiki/index.php?title=Image:10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Section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What worked w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Having access to other peoples wiki’s helped when we were unsure of certain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paper based proto type gave us a better idea of how the product should look and 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What didn’t work w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re was a lack of group structure and group ro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e didn’t use scrums as well as we should 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e didn’t utilize time as well as we should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Ella’s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make people aware of 350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Encourage people to attend the spring food festiv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Encourage people to change 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Original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0" t="0" r="0" b="13316"/>
          <a:stretch/>
        </p:blipFill>
        <p:spPr>
          <a:xfrm>
            <a:off x="4800600" y="2286000"/>
            <a:ext cx="3867120" cy="288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rcRect l="0" t="0" r="-163" b="12917"/>
          <a:stretch/>
        </p:blipFill>
        <p:spPr>
          <a:xfrm>
            <a:off x="195120" y="2252520"/>
            <a:ext cx="4370400" cy="2900520"/>
          </a:xfrm>
          <a:prstGeom prst="rect">
            <a:avLst/>
          </a:prstGeom>
          <a:ln w="0">
            <a:noFill/>
          </a:ln>
        </p:spPr>
      </p:pic>
      <p:cxnSp>
        <p:nvCxnSpPr>
          <p:cNvPr id="48" name="Straight Arrow Connector 5"/>
          <p:cNvCxnSpPr/>
          <p:nvPr/>
        </p:nvCxnSpPr>
        <p:spPr>
          <a:xfrm flipH="1" flipV="1">
            <a:off x="1951920" y="3466800"/>
            <a:ext cx="2839320" cy="24962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Straight Arrow Connector 6"/>
          <p:cNvCxnSpPr/>
          <p:nvPr/>
        </p:nvCxnSpPr>
        <p:spPr>
          <a:xfrm flipV="1">
            <a:off x="4724280" y="3428280"/>
            <a:ext cx="2353680" cy="2515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Straight Arrow Connector 7"/>
          <p:cNvCxnSpPr/>
          <p:nvPr/>
        </p:nvCxnSpPr>
        <p:spPr>
          <a:xfrm flipV="1">
            <a:off x="4876920" y="5019480"/>
            <a:ext cx="1753200" cy="9244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Straight Arrow Connector 10"/>
          <p:cNvCxnSpPr/>
          <p:nvPr/>
        </p:nvCxnSpPr>
        <p:spPr>
          <a:xfrm flipH="1" flipV="1">
            <a:off x="2761560" y="4619160"/>
            <a:ext cx="1981800" cy="1334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13"/>
          <p:cNvCxnSpPr/>
          <p:nvPr/>
        </p:nvCxnSpPr>
        <p:spPr>
          <a:xfrm flipV="1">
            <a:off x="4772160" y="4333680"/>
            <a:ext cx="2210400" cy="163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Rectangle 21"/>
          <p:cNvSpPr/>
          <p:nvPr/>
        </p:nvSpPr>
        <p:spPr>
          <a:xfrm>
            <a:off x="4181400" y="5924520"/>
            <a:ext cx="1305000" cy="352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4172040" y="59911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Movable Ob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1486080" y="1495440"/>
            <a:ext cx="18856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5591160" y="1486080"/>
            <a:ext cx="188604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1590840" y="15238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ce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5676840" y="1514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cenari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New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350mire_bike copy.gif"/>
          <p:cNvPicPr/>
          <p:nvPr/>
        </p:nvPicPr>
        <p:blipFill>
          <a:blip r:embed="rId1"/>
          <a:stretch/>
        </p:blipFill>
        <p:spPr>
          <a:xfrm>
            <a:off x="1403280" y="1600200"/>
            <a:ext cx="1973160" cy="1409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350mire_coal copy.gif"/>
          <p:cNvPicPr/>
          <p:nvPr/>
        </p:nvPicPr>
        <p:blipFill>
          <a:blip r:embed="rId2"/>
          <a:stretch/>
        </p:blipFill>
        <p:spPr>
          <a:xfrm>
            <a:off x="5019840" y="1531800"/>
            <a:ext cx="2628720" cy="1282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350mire_tree copy.gif"/>
          <p:cNvPicPr/>
          <p:nvPr/>
        </p:nvPicPr>
        <p:blipFill>
          <a:blip r:embed="rId3"/>
          <a:stretch/>
        </p:blipFill>
        <p:spPr>
          <a:xfrm>
            <a:off x="1704960" y="36194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350mire_motorbike copy.gif"/>
          <p:cNvPicPr/>
          <p:nvPr/>
        </p:nvPicPr>
        <p:blipFill>
          <a:blip r:embed="rId4"/>
          <a:stretch/>
        </p:blipFill>
        <p:spPr>
          <a:xfrm>
            <a:off x="5315040" y="3451320"/>
            <a:ext cx="26002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system shall educate the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system shall entertain the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system shall inform the user about 350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system shall challenge the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system shall encourage the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DF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889280" y="1285920"/>
            <a:ext cx="4464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E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395360"/>
            <a:ext cx="5715000" cy="4172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4362480" y="3419640"/>
            <a:ext cx="3867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Paper Base Prot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6720" y="143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tester suggested to have a "Back" butt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happens when all good clean green images app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tester asked "Will the game pause if he selected the instructions button?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Image: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25760" y="1200240"/>
            <a:ext cx="4006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Wire Fr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m.pierce</dc:creator>
  <dc:description/>
  <dc:language>en-US</dc:language>
  <cp:lastModifiedBy>REIDVR1</cp:lastModifiedBy>
  <dcterms:modified xsi:type="dcterms:W3CDTF">2009-11-17T22:39:42Z</dcterms:modified>
  <cp:revision>138</cp:revision>
  <dc:subject/>
  <dc:title>Slide 1</dc:title>
</cp:coreProperties>
</file>